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06B-5CE4-4BD5-AD60-D5A48FBC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F582-16BE-4B5E-A2E2-EC242248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0BF-D57F-4965-A093-914D667E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49C-C0FB-4E66-B65F-39954C95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F5EE-4B6C-419D-8C45-F441F72F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8821-BB59-4D4C-A643-7D44C742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1277-C085-4293-A9D2-7C555668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31E0-C66C-4F31-B3BF-82C84653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4900-FFD0-4F75-900B-A8206F23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6B7D-1C42-4DE5-AAB1-171E447D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5C32-A344-4310-93B9-7BC0A905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1EB-4FE3-4809-8230-AEC1C880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B5A5-096D-4366-AAF3-1A0B3229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5AD3-C802-45CB-A312-4BFF2E14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51DF-0E34-4A67-AFC0-7F8EFEAE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C2CE-A691-4C56-98CF-EEF2FBEE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D93A-79D6-4558-A462-3326DEC8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06C-8C40-498A-8F83-AEF10C52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EA3-A3BE-4413-A541-F74C5016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9C45-6E2E-42BC-8965-2D67E7A0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A572-FBDE-4593-BCDC-B1FB4201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15C-97E2-408E-BE12-3B87E5F1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B84-0628-49B7-A89D-AF4283A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EBC-409F-41E4-AC63-A60CE5B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B2D3-67F7-415D-BA95-CAD92569B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5920-9C69-4F28-9470-76506B420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87596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nfed term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-27000"/>
            <a:ext cx="7559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ydym wedi darganfod y rheol (neu nfed term) sy’n cynhyrchu dilyniant o rhifau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276640"/>
            <a:ext cx="75596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e   5, 7, 9, 11,……………….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 rheol yw </a:t>
            </a: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2n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hai dilyniannau gwahanol………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8942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4, 9, 16, 25, ……………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1828800"/>
            <a:ext cx="11523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2781360"/>
            <a:ext cx="4894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, 6, 11, 18, 27, ……………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6154560" y="2781360"/>
            <a:ext cx="158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+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3772080"/>
            <a:ext cx="4894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, 8, 18, 32, 50, ……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6154560" y="3772080"/>
            <a:ext cx="11527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2n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6154560" y="4708440"/>
            <a:ext cx="15861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2n</a:t>
            </a:r>
            <a:r>
              <a:rPr b="0" lang="en-GB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-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4708440"/>
            <a:ext cx="4894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7, 17, 31, 49, ……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41040" y="5331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ro yma rydw i am ddangos y rheol ac mae rhaid i chi ddarganfod y dilynia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2205000"/>
            <a:ext cx="720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 Rheol yw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2n + 5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th yw’r tri term cyntaf?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3645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rm cyntaf n =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4282920" y="364500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2x1) + 5 = 2 + 5 = 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42069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r ail derm   n =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282920" y="4206960"/>
            <a:ext cx="561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2x2) + 5 = 4 + 5 = 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34920" y="4797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 trydydd term n =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797360"/>
            <a:ext cx="561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2x3) + 5 = 6 + 5 = 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1979640" y="55897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Y dilyniant yw 7,9,11,…………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rganfyddwch tri term cyntaf y dilyniannau canlyno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n + 4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7n – 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1n +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219852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21798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7, 10, 13,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914560" y="26114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-2, 5, 12,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30430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2, 23, 34,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4765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, 4, 9,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39085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-2, 1, 6,………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2:18:36Z</dcterms:created>
  <dc:creator>Betsan Wyn Thomas</dc:creator>
  <dc:description/>
  <dc:language>en-US</dc:language>
  <cp:lastModifiedBy>Betsan Wyn Thomas</cp:lastModifiedBy>
  <dcterms:modified xsi:type="dcterms:W3CDTF">2007-02-11T21:38:33Z</dcterms:modified>
  <cp:revision>2</cp:revision>
  <dc:subject/>
  <dc:title>nfed ter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